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574C-BC01-476A-B767-FB00F7A2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F51B-7C20-474D-B2EE-63FCFF14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55B-44ED-478C-8A88-1F08D7CA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6BD-87BE-4FC7-AC00-E55905D8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CB74-5359-4C7F-B383-59D29BAC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A227-BA7A-4AAC-A868-829F63AA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04B1-E44E-476B-90CE-DFC15CB7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2CB-798B-4555-8302-AB65F61A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13B-9852-4902-BF5C-9C5FAB10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B4E-1D20-472B-B2AA-68D15FA2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757-F9F4-4096-A297-D6D825C7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036F-B852-4838-B2AC-0B2653A6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89F6-EB31-4AAE-AEC0-5968F79AF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229464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124000" y="177336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СКА ФА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95280" y="2924280"/>
            <a:ext cx="82821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. вежб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ортско-медицинске организације у свету и њихов значај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Европска федерација спортскомедицинских асоцијација -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EFS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920" y="1386000"/>
            <a:ext cx="8712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EFSMA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је основана 1997. годи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и циљеви ове асоцијације су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љење спортске медицине као специјалности у Европ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армонизација изучавања спортске медицине широм Европ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варање паневропског форума за координацију активности европских удружења за спортску медицин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моција значаја физичких активности и вежбања у превенцији, лечењу и рехабилитацији после болести и повре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мена научних резултата и искустава у области спортске медиц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д на заједничким истраживачким пројектима, стварању лиценцираних спортскомедицинских центара и промоција етичких принципа у спортској медици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Ð ÐµÐ·ÑÐ»ÑÐ°Ñ ÑÐ»Ð¸ÐºÐ° Ð·Ð° The European Federation of Sports Medicine Associations â EFSMA"/>
          <p:cNvPicPr/>
          <p:nvPr/>
        </p:nvPicPr>
        <p:blipFill>
          <a:blip r:embed="rId1"/>
          <a:stretch/>
        </p:blipFill>
        <p:spPr>
          <a:xfrm>
            <a:off x="2627280" y="5373720"/>
            <a:ext cx="4705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Европски колеџ спортских наука -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EC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1628640"/>
            <a:ext cx="8712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ECS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је међународна организација основана 1995. год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Њени циљеви су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моција спортске науке у међународном, мултикултуралном, мултидисциплинарном и интердисциплинарном контексту, с посебном пажњом усмереном на интердисциплинарну област спортске науке и спортске медици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Ð ÐµÐ·ÑÐ»ÑÐ°Ñ ÑÐ»Ð¸ÐºÐ° Ð·Ð° European College of Sport Science â ECSS)"/>
          <p:cNvPicPr/>
          <p:nvPr/>
        </p:nvPicPr>
        <p:blipFill>
          <a:blip r:embed="rId1"/>
          <a:stretch/>
        </p:blipFill>
        <p:spPr>
          <a:xfrm>
            <a:off x="1619280" y="4941720"/>
            <a:ext cx="61531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Европски колеџ спортских наука -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EC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78920" y="1557000"/>
            <a:ext cx="8712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ECS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мовише спортску науку као интегралну ризницу знања о људским покретима у оквиру природних наука, медицине, социјалних и хуманитарних нау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грес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ECS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а одржавају се сваке год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сети конгрес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ECS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а, одржан у Београду 2005. године, био је највећи скуп спортске медицине одржан у Србији, који је окупио преко 1000 учесника из 54 земљ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Ð ÐµÐ·ÑÐ»ÑÐ°Ñ ÑÐ»Ð¸ÐºÐ° Ð·Ð° European College of Sport Science â ECSS Belgrade 2005"/>
          <p:cNvPicPr/>
          <p:nvPr/>
        </p:nvPicPr>
        <p:blipFill>
          <a:blip r:embed="rId1"/>
          <a:stretch/>
        </p:blipFill>
        <p:spPr>
          <a:xfrm>
            <a:off x="1116000" y="4869000"/>
            <a:ext cx="7345440" cy="14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лканска спортскомедицинска асоцијација (БСМ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6000" y="1988640"/>
            <a:ext cx="8712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алканска спортскомедицинска асоцијација (БСМА) основана је 1971. године с циљем повезивања лекара и унапређења научне сарадње спортскомедицинских удружења Бугарске, Грчке, Румуније, Турске и Југославиј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ас ова асоцијација обухвата девет земаља: Албанију, Бугарску, Кипар, Грчку, Македонију, Румунију, Молдавију, Србију и Турск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Ð ÐµÐ·ÑÐ»ÑÐ°Ñ ÑÐ»Ð¸ÐºÐ° Ð·Ð° Balkan Sport Medicine Association â BSMA"/>
          <p:cNvPicPr/>
          <p:nvPr/>
        </p:nvPicPr>
        <p:blipFill>
          <a:blip r:embed="rId1"/>
          <a:stretch/>
        </p:blipFill>
        <p:spPr>
          <a:xfrm>
            <a:off x="3348000" y="4365720"/>
            <a:ext cx="23763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лканска спортскомедицинска асоцијација (БСМ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920" y="1484280"/>
            <a:ext cx="8712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ви конгрес БСМА одржан је у Атини 1972. године, а последњи, петнаести, 2008. године у Букурешту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ва конгреса БСМА одржана су у нашој земљи; трећи у Нишу 1976. и девети 1995. године у Београду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а последњем конгресу, одржаном у Букурешту 2008, Извршни комитет БСМА је одлучио да замрзне своје активности и да их усмери на рад у Европској федерацији спортскомедицинских асоцијациј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Ð ÐµÐ·ÑÐ»ÑÐ°Ñ ÑÐ»Ð¸ÐºÐ° Ð·Ð° Balkan Sport Medicine Association â BSMA"/>
          <p:cNvPicPr/>
          <p:nvPr/>
        </p:nvPicPr>
        <p:blipFill>
          <a:blip r:embed="rId1"/>
          <a:stretch/>
        </p:blipFill>
        <p:spPr>
          <a:xfrm>
            <a:off x="3492360" y="4149720"/>
            <a:ext cx="23749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Међународна спортскомедицинска асоцијација 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6000" y="2060640"/>
            <a:ext cx="8712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оком одржавања II зимске олимпијаде 1928. год. у Сент Морицу, организован је састанак 32 лекара из 11 националних олимпијских селекција на којем је формирана Међународна спортскомедицинска асоцијација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ssociation Internationale Médico-Sporti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IM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 првог председника изабран је Вилхелм Кнол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ilhelm Knoll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876–1958) из Швајцарске, а први генерални секретар постао је Артур Малвиц из Немачк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Међународна спортскомедицинска асоцијација 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6000" y="2204640"/>
            <a:ext cx="8712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ефинисани су основни циљеви Удружења – размена информација и искустава везаних за базична истраживања и практичне аспекте спортске медиц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сте године, током одржавања IX летњих олимпијских игара у Амстердаму, одржан је први конгрес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IM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а, уз учешће 286 лекара из 30 земаљ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тут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AIMS-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0600" y="1844640"/>
            <a:ext cx="8362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в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у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AIM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а одредио је три правца деловањ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моција за спорт везаних научних истраживања у областима биологије, психологије и социолог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моција истраживања медицинских пројеката везаних за тренинг и такмичењ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овање међународних конгреса спортске медици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4000" y="1773000"/>
            <a:ext cx="49003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ивањем и почетком рад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AIM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а озваничен је настанак спортске медицине као нове медицинске обла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ком одржавања Трећег међународног конгреса спортске медицине у Шамонију 1934. године одлучено је д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AIM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мени своје име у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FIMS (Fédération Internationale de Médécine du Sport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4427640" y="1773360"/>
            <a:ext cx="5184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ајзначајније међународне асоцијације медицине сп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6000" y="1915920"/>
            <a:ext cx="8712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ред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IM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а, међу најзначајније међународне асоцијације медицине спорта у Европи убрајају с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вропска федерација спортскомедицинских асоцијација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European Federation of Sports Medicine Associ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FS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вропски колеџ спортских наука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uropean College of Sport Scienc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C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алканска асоцијација спортске медицине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alkan Sport Medicine Associ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S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F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6000" y="2349360"/>
            <a:ext cx="8712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IM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је данас сложено, добро организовано међународно удружење посвећено промоцији и развоју спортске медицине широм св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IM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је заједнички покровитељ четири континенталне и 117 националних спортскомедицинских асоцијација у које је укључено 125.000 спортских лекара и велики број других професионалаца у различитим областима заштите здрављ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ивно је повезан с многим релевантним спортским и политичким организацијам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4356000" y="476280"/>
            <a:ext cx="259416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F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989000"/>
            <a:ext cx="8712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укативна функциј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IM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а остварује се преко курсева и публикација, регионалних и међународних скупова, светских конгрес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IM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убликација о научним клиничким информацијама везаним за спортску медицин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арни циљев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IM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а су промоција истраживања и развоја спортске медицине широм света, помоћ спортистима у достизању оптималне такмичарске способности унапређењем њиховог генског потенцијала, здравља, исхране, квалитетне медицинске заштите и тренинг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716360" y="260280"/>
            <a:ext cx="259416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F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8920" y="2106720"/>
            <a:ext cx="8712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 првог међународног конгрес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IM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а одржаног 1928. године у Амстердаму, ови конгреси су одржавани сваке друге године, с прекидом током Другог светског ра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 2016. године одржана су 43 међународна конгрес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IM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Залагањем проф. др Смодлаке, 10. међународни конгрес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IM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ржан је у Београду 1954. годи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 1963. године, поред међународних конгрес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IM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а (који ће променити назив у светски конгрес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IM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а), одржавају се и европски конгрес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FIM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19640" y="260280"/>
            <a:ext cx="259416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07:24:21Z</dcterms:created>
  <dc:creator>Vlada Jakovljevic</dc:creator>
  <dc:description/>
  <dc:language>en-US</dc:language>
  <cp:lastModifiedBy>х</cp:lastModifiedBy>
  <dcterms:modified xsi:type="dcterms:W3CDTF">2018-09-07T07:22:04Z</dcterms:modified>
  <cp:revision>34</cp:revision>
  <dc:subject/>
  <dc:title>Демијелинизационе болести Мијастенија гравис</dc:title>
</cp:coreProperties>
</file>